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4B8-71E5-4660-AA80-8DA1E8B0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BAF-DA36-4E29-AE20-BE048F89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CB2-41E5-4E72-89ED-9B97805E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B1D-9101-4805-B79B-9574C041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D76-AD0C-4DDC-A0B6-E46E5918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797-ED79-4A8E-B5EB-7C67149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D65-B639-4309-B73B-0AB5A26B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3FC-B215-44BA-B934-B009F35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581-0420-4E6E-8F1F-816AEAEB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991-90EA-45C7-8B97-C2229A6F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2DD-1B5A-4D95-8BF7-8BDEE71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DDF-8B4C-465A-BE6F-CBC5AD14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331B-4603-42EF-8230-332DB14C0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ller Intervention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benefits: raises water productivity; double the cropping season and thus yields; greater food security and cash income; high value crops; integration with other components (fruit trees, legumes, grains, fod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Issues: siltation; upstream/downstream conflicts and competition; glut on market; equity issues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ofore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soil fertility; reduce soil erosion; cash income; food; fodder; constructio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actices: improved fallow; trees on farm; woodlots; fenc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competition over limited space; ownership of trees; establishment challenges (management, livestock predation); labor; access to see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high yielding varieties increasing harvest for food and cash; fodder; fuel; th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access to markets for inputs (fertilizer, herbicides); land preparation and management; trade-offs of improved variety for grain versus fodder needs; quality of grain affected b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and sweet potato benefits: high value per unit of water; can store in field; food security – fills hunger gap; cash crop not as affected by global price fluctuations; high yielding ‘lazy farmer’ crop; drought resistant; relay crop; good in rotation; use of residual soil moisture; dual purpose – fodder and food; Vitamin A from orange-fleshed sweet potato – addressed malnutrition; new storag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torage, weight-distance to market, rainy season spoilage (though improved varieties address this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e Ri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yield increases; improved water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oils; slope;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a conceptual framework to rapidly assess complex system to determine possible i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facilit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 and Institution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on the process: what are the impacts of the conceptual approach and implementation on the project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st approach and operationaliz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09:35Z</dcterms:created>
  <dc:creator>Katherine</dc:creator>
  <dc:description/>
  <dc:language>en-US</dc:language>
  <cp:lastModifiedBy>Katherine</cp:lastModifiedBy>
  <dcterms:modified xsi:type="dcterms:W3CDTF">2012-02-01T12:21:20Z</dcterms:modified>
  <cp:revision>7</cp:revision>
  <dc:subject/>
  <dc:title>‘Killer Interventions’</dc:title>
</cp:coreProperties>
</file>